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277-40BC-4637-8FB1-4B036268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A1B-71EE-4FF7-A1B3-9DD5147D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38B-9463-4678-AEF7-9C6DBF55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61D-FDE0-4059-82B7-DE74BEF8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2CA-2E63-411F-834F-425CBD2C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DBE-9815-461F-932C-82928CD2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C28-39B5-4C81-B7D7-73B08A68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D3C-F158-4050-8ECD-F0FF837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0C0-26CC-49AB-9247-5085FBEF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4EE-D492-40FD-AC69-E37B4AA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260-C4D5-4DF1-917B-ECBE6F57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6F1-6913-4EA6-A7C5-C6845D50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353-024F-45B9-8DDD-BA9DE8E6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t another spectacular PowerPoint by Ms. Mc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46483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14040" y="2057040"/>
            <a:ext cx="7924680" cy="48006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eu is generally commonplace and the unhero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is usually the dull struggle of daily exis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the naturalist reveals qualities in their characters that are usually associated with the heroic or adventuro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, acts of violence and passion lead to desperate moments and violent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at its lowest levels is not so simple as it seems to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ramic, “slice-of-life" d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"chronicle of despair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Naturalism: A Scientific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s to apply the scientific principl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ts study of human be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acters are but higher-order animals “fully subject to the forces of heredi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uman beasts” studied impartially, without moralizing about their na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ry is told in third pers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rrator is detached, objective, and unsympathe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rrator does not comment on the morality or the fairness of the situations in which characters find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der, however, is meant to empathize with the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Maintaining Dignity in Advers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305920" cy="36576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s conditioned and controlled by environment, social conditions, heredity, chance (or fate), or instin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, they have compensating humanistic values which affirm their individuality and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eir struggle for life becomes heroic and they maintain human dignity despite degrading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s faced with overwhelming and oppressive material forces that control their l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t, they maintain their self-w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704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 Few Practiction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le Zola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 roman experimental (The Experimental Novel) (1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Crane, “The Open Boat” (18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 London, “To Build a Fire” (19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h Wharto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House of Mi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n Glasgow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rren 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2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Steinbeck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Grapes of Wr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Wrigh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ive 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40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ack Bo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4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 Mail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Naked and the D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4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Styro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e Down in Dark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5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l Bellow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dventures of Augie M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53)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From "The Open Boat" by Stephen C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occurs to a man that nature does not regard him as importa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at she feels she would not maim the universe by disposing of hi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at first wishes to throw bricks at the te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 hates deeply the fact that there are no bricks and no temples.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Naturalistic Po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said to the universe: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ir, I exist!"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owever," replied the universe,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e fact has not created in me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nse of obligation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Stephen Crane (189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alphaModFix amt="27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352320"/>
            <a:ext cx="8305920" cy="35053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many modern works contain naturalistic eleme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ura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specifically to a literary movement that took place in America, England, and France during the late 1800’s and early 1900’s, which produced a unique type of “realistic” f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order to understand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atural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e must first examin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al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886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sm portrays life realistically without “sugarcoat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sts try to “write re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cords "the smaller details of everyday life, things that are likely to happen between lunch and supper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ortrays local color, attempting to accurately portray the customs, speech, dress, and living conditions of their chosen l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jects the idealized presentations, imaginative settings, the supernatural, and the improbable plot twists of romantic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ism is essentially realism with an additional face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r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5410080" cy="11430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5053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racters do not have free will; external and internal forces control their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s belief is called </a:t>
            </a:r>
            <a:r>
              <a:rPr b="0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determinis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. All determinists believe in the existence of the will, but the will is enslaved due to a multitude of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haracters attempting to exercise free will are hamstrung by forces beyond thei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Life is an inescapable tr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’s as Marion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350532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ists view individuals as being at the mercy of biological and socioeconomic forces, where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li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ld that humans have some degree of free will that they can exercise to affect their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gs happ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, as if they were marionettes whose movements are entirely determined by forces beyond their contr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ces Beyond the Character’s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27672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are dominated by external or internal for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orm, or a character lost at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 born into pov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ce (f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’s child is suddenly stricken with typhoid f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Pa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st, greed, or desire for dominance or pleasure overcome rati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781680" cy="44956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ily influenced by emergent scientific theories of th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’s theory of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corollary, “survival of the fittes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for survival brings out the "brute within" each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is often "man against nature" or "man against himself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57200"/>
            <a:ext cx="8076960" cy="7034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different and Omnipotent Power of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33526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ure/Fate is as an indifferent force acting upon the lives of human be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often describe the futile attempts of human beings to exercise free will in a universe that ironically reveals that free will is an illu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ence and tragedy is often th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11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 Matter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deals with raw and unpleasant experiences which reduce characters to "degrading" behavior as they struggle to surv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are mostly from the lower-middle or lower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poor, uneducated, and unsophist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 of the people working itself out in blood and [filth]” (Norri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7:51:29Z</dcterms:created>
  <dc:creator>Joe Younger</dc:creator>
  <dc:description/>
  <dc:language>en-US</dc:language>
  <cp:lastModifiedBy>Angie</cp:lastModifiedBy>
  <dcterms:modified xsi:type="dcterms:W3CDTF">2010-01-03T21:37:34Z</dcterms:modified>
  <cp:revision>42</cp:revision>
  <dc:subject/>
  <dc:title>NATURALISM </dc:title>
</cp:coreProperties>
</file>